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AB76198-C592-4900-B8E6-DF6559BCB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2638FAF-C52A-4D76-A11E-E8520216B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68E4493-44B7-4E73-87D6-9CEF38F82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F4BA46E-1868-4267-A1F7-113054B8E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6457125-2686-4B94-8FF6-4A461DD9F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C494BED-8F43-400F-BE84-4B87313DE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C0862AC-54C4-42C4-BAF2-B9B5605A5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642F9FA-6142-4A60-8D0F-D68F84B56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4CBF9D4-A91B-42CD-97D9-E54EB56F8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C88C294-983D-4071-90AA-E23DF305C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2A3D65E-DFEC-4A6D-8073-AE7E5BDAA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29FEC05-D7E2-49DA-87E4-ECC952B3A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25D710E-D211-4E57-A110-8B261BE58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3642A6D-83E8-4031-B12F-D5F0DDDE6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91B6BC8-378E-4BFB-8751-A2F26E6A2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DC1D472-9490-4845-BD3F-90B5C9F56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C376ACD-BC3F-43E7-8BBE-B508A0F44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58BB860-5ECE-4621-BEDD-9DE59D5B2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A7D1AE7-CB74-481F-B105-3A48C50CD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36D1-4AE5-4943-86BB-086D727BB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50ED-F216-4C20-B913-D59269DD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0F68-46E0-4286-969C-9117E7B75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15A0-8B26-4407-9B70-8FF7A7B9C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8880-CCDC-409C-8F47-14322A00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A2E5-4518-46B6-B69D-6BA94297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F491-09D0-43AA-A2EF-65D62880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A36E-1518-4B06-8EB0-C9E6F6E9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DE8E-A385-4A42-BF69-1785EDD4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6FA4-6EE9-419E-9E0C-5914CDA3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D42D-56F1-496D-8B1B-3611215C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60D7-EEED-4A1D-8A3A-AA4439AD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DE28-A9EB-4FC4-9C44-1F58D5348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kugawa Jap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Unification of Jap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5981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00-18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tokugawa-display"/>
          <p:cNvPicPr/>
          <p:nvPr/>
        </p:nvPicPr>
        <p:blipFill>
          <a:blip r:embed="rId1"/>
          <a:stretch/>
        </p:blipFill>
        <p:spPr>
          <a:xfrm>
            <a:off x="2743200" y="1828800"/>
            <a:ext cx="424800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876920" y="45684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cial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380880" y="533520"/>
            <a:ext cx="4572000" cy="74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he 1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ntury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Japan witnessed dramatic population grow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in order to raise their standard of living, many families between 1700 and 1850, practiced contraception, late marriage, abortion, and infanticide (“thinning out the rice shoots”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ractice, which occurred mostly in rural communities with strained resources,  resulted in moderate population ga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lec02_4nogu"/>
          <p:cNvPicPr/>
          <p:nvPr/>
        </p:nvPicPr>
        <p:blipFill>
          <a:blip r:embed="rId1"/>
          <a:stretch/>
        </p:blipFill>
        <p:spPr>
          <a:xfrm>
            <a:off x="4876920" y="1523880"/>
            <a:ext cx="403848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0199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fucian Social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0" y="1828800"/>
            <a:ext cx="373392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ing El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g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im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ur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asants and Artis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ch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ctc_02_img0565"/>
          <p:cNvPicPr/>
          <p:nvPr/>
        </p:nvPicPr>
        <p:blipFill>
          <a:blip r:embed="rId1"/>
          <a:stretch/>
        </p:blipFill>
        <p:spPr>
          <a:xfrm>
            <a:off x="3657600" y="1905120"/>
            <a:ext cx="548640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"/>
          <p:cNvSpPr/>
          <p:nvPr/>
        </p:nvSpPr>
        <p:spPr>
          <a:xfrm>
            <a:off x="380880" y="1981080"/>
            <a:ext cx="3886200" cy="4572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"/>
          <p:cNvSpPr/>
          <p:nvPr/>
        </p:nvSpPr>
        <p:spPr>
          <a:xfrm>
            <a:off x="1981080" y="27432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"/>
          <p:cNvSpPr/>
          <p:nvPr/>
        </p:nvSpPr>
        <p:spPr>
          <a:xfrm>
            <a:off x="1752480" y="35053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7"/>
          <p:cNvSpPr/>
          <p:nvPr/>
        </p:nvSpPr>
        <p:spPr>
          <a:xfrm>
            <a:off x="1066680" y="49528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>
            <a:off x="609480" y="60199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5638680" y="228600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eror and Imperial Court Famil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6477120" y="34290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g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5410080" y="3352680"/>
            <a:ext cx="838440" cy="1143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3"/>
          <p:cNvSpPr/>
          <p:nvPr/>
        </p:nvSpPr>
        <p:spPr>
          <a:xfrm>
            <a:off x="5715000" y="3657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4"/>
          <p:cNvSpPr/>
          <p:nvPr/>
        </p:nvSpPr>
        <p:spPr>
          <a:xfrm>
            <a:off x="5638680" y="39625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5"/>
          <p:cNvSpPr/>
          <p:nvPr/>
        </p:nvSpPr>
        <p:spPr>
          <a:xfrm>
            <a:off x="5486400" y="4267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6"/>
          <p:cNvSpPr/>
          <p:nvPr/>
        </p:nvSpPr>
        <p:spPr>
          <a:xfrm>
            <a:off x="5486400" y="4495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6477120" y="37339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im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9"/>
          <p:cNvSpPr/>
          <p:nvPr/>
        </p:nvSpPr>
        <p:spPr>
          <a:xfrm>
            <a:off x="6477840" y="403776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ur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0"/>
          <p:cNvSpPr/>
          <p:nvPr/>
        </p:nvSpPr>
        <p:spPr>
          <a:xfrm>
            <a:off x="6477840" y="4266360"/>
            <a:ext cx="7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n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1"/>
          <p:cNvSpPr/>
          <p:nvPr/>
        </p:nvSpPr>
        <p:spPr>
          <a:xfrm>
            <a:off x="5562720" y="48006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rmers (peasa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5562720" y="53341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tis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3"/>
          <p:cNvSpPr/>
          <p:nvPr/>
        </p:nvSpPr>
        <p:spPr>
          <a:xfrm>
            <a:off x="838080" y="54864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4"/>
          <p:cNvSpPr/>
          <p:nvPr/>
        </p:nvSpPr>
        <p:spPr>
          <a:xfrm>
            <a:off x="533520" y="6553080"/>
            <a:ext cx="487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5"/>
          <p:cNvSpPr/>
          <p:nvPr/>
        </p:nvSpPr>
        <p:spPr>
          <a:xfrm>
            <a:off x="5562720" y="57913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rcha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6"/>
          <p:cNvSpPr/>
          <p:nvPr/>
        </p:nvSpPr>
        <p:spPr>
          <a:xfrm>
            <a:off x="5562720" y="62485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asts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876920" y="45684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ltural Influences of 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380880" y="533520"/>
            <a:ext cx="4572000" cy="66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fluence of China continu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l education began with the study of Chinese language and lit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late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ntury, Japanese scholars wrote philosophical, religious, and legal works in Chine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mon people embraced Buddh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ucianism was the most influential philosophical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jpnbudda"/>
          <p:cNvPicPr/>
          <p:nvPr/>
        </p:nvPicPr>
        <p:blipFill>
          <a:blip r:embed="rId1"/>
          <a:stretch/>
        </p:blipFill>
        <p:spPr>
          <a:xfrm>
            <a:off x="4943520" y="1600200"/>
            <a:ext cx="420048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76920" y="45684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o-Confuci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80880" y="914400"/>
            <a:ext cx="4572000" cy="70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Confucian values such as filial piety and loyalty to superiors was emphasiz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hose who had formal education (sons of merchants and government officials) received constant exposure to neo-Confucian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he early 1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ntury, neo-Confucianism had become the official ideology of the Tokugawa bakuf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kampo2"/>
          <p:cNvPicPr/>
          <p:nvPr/>
        </p:nvPicPr>
        <p:blipFill>
          <a:blip r:embed="rId1"/>
          <a:stretch/>
        </p:blipFill>
        <p:spPr>
          <a:xfrm>
            <a:off x="4876920" y="1447920"/>
            <a:ext cx="4267080" cy="36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4038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ive Japanese Tra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0" y="990720"/>
            <a:ext cx="4572000" cy="70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he 1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ntury, scholars of “native learning” scorned neo-Confucianism and even Buddh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emphasized folk traditions, Japanese literature,  and the indigenous Shinto reli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cholars viewed Japanese people as superior to others (xenophobi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shimenawa_priest"/>
          <p:cNvPicPr/>
          <p:nvPr/>
        </p:nvPicPr>
        <p:blipFill>
          <a:blip r:embed="rId1"/>
          <a:stretch/>
        </p:blipFill>
        <p:spPr>
          <a:xfrm>
            <a:off x="228600" y="2209680"/>
            <a:ext cx="40006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4038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pular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800600" y="990720"/>
            <a:ext cx="4572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he 1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1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nturies, a lively middle class emerged out of the merchant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ating Worlds,” entertainment quarters with teahouses, theaters, brothels and public baths offered escape from social responsib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e fiction, kabuki theater (bawdy skits), and bunraku (puppet theater) attracted many audi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bunraku"/>
          <p:cNvPicPr/>
          <p:nvPr/>
        </p:nvPicPr>
        <p:blipFill>
          <a:blip r:embed="rId1"/>
          <a:stretch/>
        </p:blipFill>
        <p:spPr>
          <a:xfrm>
            <a:off x="380880" y="1752480"/>
            <a:ext cx="4191120" cy="29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0920" y="15192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ristian 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914400" y="990720"/>
            <a:ext cx="75438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549,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Jesuit Francis Xavi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veled to Japan and opened a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powerful daimyo adopted Christianity and ordered their subjects to do 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he 1580’s about 150,000 Japanese had converted to Christia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okugawa shoguns restricted European access to Japan for fear Christianity might allow for alliances between daimyo and Europe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dhist and Confucian scholars resented Christian conviction that their faith was the only true fai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istian converts became frustrated that they could not become priests or play leadership roles in the mi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4038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ti-Christian Campa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4191120" y="466560"/>
            <a:ext cx="4724280" cy="65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612, shoguns began rigorous enforcement of decrees putting a halt to Christian mi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y tortured and executed European missionaries who refused to leave as well as Japanese Christians who refused to abandon their fai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often executed victims by crucifixion or burning at the sta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he late 1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ntury, the anti-Christian campaign had claimed tens of thousands of l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210083"/>
          <p:cNvPicPr/>
          <p:nvPr/>
        </p:nvPicPr>
        <p:blipFill>
          <a:blip r:embed="rId1"/>
          <a:stretch/>
        </p:blipFill>
        <p:spPr>
          <a:xfrm>
            <a:off x="1066680" y="1752480"/>
            <a:ext cx="26244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tch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962520" y="0"/>
            <a:ext cx="4724280" cy="72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1639, Dutch merchants became the principal source of information about Europe and the world beyond the ea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mall number of Japanese scholars learned Dutch in order to communicate with the foreign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1720, Tokugawa authorities lifted the ban on foreign books and Dutch learning began to play a significant role in Japanese 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art influenced Japanese scholars interested in anatomy, astronomy,  and bot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211868"/>
          <p:cNvPicPr/>
          <p:nvPr/>
        </p:nvPicPr>
        <p:blipFill>
          <a:blip r:embed="rId1"/>
          <a:stretch/>
        </p:blipFill>
        <p:spPr>
          <a:xfrm>
            <a:off x="304920" y="1447920"/>
            <a:ext cx="36655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760" y="304560"/>
            <a:ext cx="3886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206280" y="685800"/>
            <a:ext cx="365760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hogu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ilitary governor) ruled Japan through retainers who received political rights and large estates in return for military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amoto emperor was a figurehead and spent most of time performing shinto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3" descr="Shogun3"/>
          <p:cNvPicPr/>
          <p:nvPr/>
        </p:nvPicPr>
        <p:blipFill>
          <a:blip r:embed="rId1"/>
          <a:stretch/>
        </p:blipFill>
        <p:spPr>
          <a:xfrm>
            <a:off x="4038480" y="1143000"/>
            <a:ext cx="4762800" cy="35719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"/>
          <p:cNvSpPr/>
          <p:nvPr/>
        </p:nvSpPr>
        <p:spPr>
          <a:xfrm>
            <a:off x="4229280" y="51181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the 1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ntury, the ambitions of shoguns and retainers led to a series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ivil wars in the 16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centu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3886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kugawa Ja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4419720" y="304920"/>
            <a:ext cx="4419360" cy="61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ward the end of the 1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ntury, A series of military leaders brought about the unification of the 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600 the last of the leaders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okugawa Ieyas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stablished a military government, the “Tokugawa bakufu” (tent governmen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yasu and his descendants ruled the bakufu as shoguns from 1600 until the end of the Tokugawa dynasty in 186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tokugawa_ieyasu"/>
          <p:cNvPicPr/>
          <p:nvPr/>
        </p:nvPicPr>
        <p:blipFill>
          <a:blip r:embed="rId1"/>
          <a:stretch/>
        </p:blipFill>
        <p:spPr>
          <a:xfrm>
            <a:off x="457200" y="1752480"/>
            <a:ext cx="36576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3886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gu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4419720" y="557280"/>
            <a:ext cx="4267080" cy="63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urpose of the Tokugawa shoguns was to keep their regions calm and prevent the return of civil w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hoguns controlled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aimy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great names) who were powerful territorial lords who ruled most of Japan from their vast landhol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260 or so daimyo functioned as near absolute rulers within their domai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white_horse_shogun"/>
          <p:cNvPicPr/>
          <p:nvPr/>
        </p:nvPicPr>
        <p:blipFill>
          <a:blip r:embed="rId1"/>
          <a:stretch/>
        </p:blipFill>
        <p:spPr>
          <a:xfrm>
            <a:off x="0" y="1447920"/>
            <a:ext cx="38577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47960" y="456840"/>
            <a:ext cx="3886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untry at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52280" y="609480"/>
            <a:ext cx="4572000" cy="70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daimyo maintained a government staff by military subordinates that were supported by judiciary, schools, and paper mon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daimyo established relationships with European mariners from whom they learned how to manufacture and use gunpowder weap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he last decades of the sengoku era, cannons and personal firearms were significant in Japanese confli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sengoku_Title"/>
          <p:cNvPicPr/>
          <p:nvPr/>
        </p:nvPicPr>
        <p:blipFill>
          <a:blip r:embed="rId1"/>
          <a:stretch/>
        </p:blipFill>
        <p:spPr>
          <a:xfrm>
            <a:off x="5029200" y="1295280"/>
            <a:ext cx="36669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800600" y="68544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rolling the Daim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380880" y="0"/>
            <a:ext cx="4572000" cy="77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castle of Edo, modern-day Tokyo, the shogun governed his own domain and tried to control the daimyo in their terri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hoguns institut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“alternate attendance,” which required daimyo to spend every other year in Edo at the Tokugawa cou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as intended to keep an eye on the daimyo and encourage them to spend their money and lavish homes and lives in Edo rather than building arm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kameido-HiroshigeEdoMeisho"/>
          <p:cNvPicPr/>
          <p:nvPr/>
        </p:nvPicPr>
        <p:blipFill>
          <a:blip r:embed="rId1"/>
          <a:stretch/>
        </p:blipFill>
        <p:spPr>
          <a:xfrm>
            <a:off x="4724280" y="1981080"/>
            <a:ext cx="4191120" cy="2746440"/>
          </a:xfrm>
          <a:prstGeom prst="rect">
            <a:avLst/>
          </a:prstGeom>
          <a:ln w="0">
            <a:noFill/>
          </a:ln>
        </p:spPr>
      </p:pic>
      <p:sp>
        <p:nvSpPr>
          <p:cNvPr id="67" name="Left Arrow 1"/>
          <p:cNvSpPr/>
          <p:nvPr/>
        </p:nvSpPr>
        <p:spPr>
          <a:xfrm>
            <a:off x="5105520" y="5257800"/>
            <a:ext cx="3429000" cy="1371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Louis XIV and Versai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800600" y="68544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rol of Foreign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380880" y="609480"/>
            <a:ext cx="4572000" cy="59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hogun closely controlled relations between Japan and the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knew that Spanish forces had conquered the Philippine Islands in the 1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ntu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feared that Europeans might cause serious problems by making alliances with daimyo and supplying them with weap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map-s"/>
          <p:cNvPicPr/>
          <p:nvPr/>
        </p:nvPicPr>
        <p:blipFill>
          <a:blip r:embed="rId1"/>
          <a:stretch/>
        </p:blipFill>
        <p:spPr>
          <a:xfrm>
            <a:off x="5172120" y="1752480"/>
            <a:ext cx="36370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rol of Foreign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4572000" y="533520"/>
            <a:ext cx="4572000" cy="74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he 1630’s, the shog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orbade Japanese from going abroa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hibited the construction of large ship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pelled Europeans from Japa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hibited foreign merchants from trading in Japanese port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ed trade with Asian land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itted small numbers of Chinese and Dutch merchants to trade in Nagasak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5-Point Star 1"/>
          <p:cNvSpPr/>
          <p:nvPr/>
        </p:nvSpPr>
        <p:spPr>
          <a:xfrm>
            <a:off x="4022640" y="838080"/>
            <a:ext cx="838440" cy="685800"/>
          </a:xfrm>
          <a:custGeom>
            <a:avLst/>
            <a:gdLst/>
            <a:ahLst/>
            <a:rect l="l" t="t" r="r" b="b"/>
            <a:pathLst>
              <a:path w="838200" h="685800">
                <a:moveTo>
                  <a:pt x="1" y="261952"/>
                </a:moveTo>
                <a:lnTo>
                  <a:pt x="320166" y="261953"/>
                </a:lnTo>
                <a:lnTo>
                  <a:pt x="419100" y="0"/>
                </a:lnTo>
                <a:lnTo>
                  <a:pt x="518034" y="261953"/>
                </a:lnTo>
                <a:lnTo>
                  <a:pt x="838199" y="261952"/>
                </a:lnTo>
                <a:lnTo>
                  <a:pt x="579179" y="423846"/>
                </a:lnTo>
                <a:lnTo>
                  <a:pt x="678117" y="685798"/>
                </a:lnTo>
                <a:lnTo>
                  <a:pt x="419100" y="523901"/>
                </a:lnTo>
                <a:lnTo>
                  <a:pt x="160083" y="685798"/>
                </a:lnTo>
                <a:lnTo>
                  <a:pt x="259021" y="423846"/>
                </a:lnTo>
                <a:lnTo>
                  <a:pt x="1" y="26195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CP7_4"/>
          <p:cNvPicPr/>
          <p:nvPr/>
        </p:nvPicPr>
        <p:blipFill>
          <a:blip r:embed="rId1"/>
          <a:stretch/>
        </p:blipFill>
        <p:spPr>
          <a:xfrm>
            <a:off x="304920" y="1495440"/>
            <a:ext cx="3803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5120" y="304920"/>
            <a:ext cx="62481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cial and Economic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304920" y="1600200"/>
            <a:ext cx="4572000" cy="55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creased agricultural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crop str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methods of water control and irr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fertilize increased rice y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ion of cotton, silk, indigo, and sake incre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from subsistence farming to market prod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lec02_4nogu"/>
          <p:cNvPicPr/>
          <p:nvPr/>
        </p:nvPicPr>
        <p:blipFill>
          <a:blip r:embed="rId1"/>
          <a:stretch/>
        </p:blipFill>
        <p:spPr>
          <a:xfrm>
            <a:off x="4876920" y="1523880"/>
            <a:ext cx="403848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6T09:21:32Z</dcterms:created>
  <dc:creator>Kathy Corder</dc:creator>
  <dc:description/>
  <dc:language>en-US</dc:language>
  <cp:lastModifiedBy>Windows User</cp:lastModifiedBy>
  <cp:lastPrinted>2014-06-02T11:21:37Z</cp:lastPrinted>
  <dcterms:modified xsi:type="dcterms:W3CDTF">2014-06-02T11:32:14Z</dcterms:modified>
  <cp:revision>23</cp:revision>
  <dc:subject/>
  <dc:title>Slide 1</dc:title>
</cp:coreProperties>
</file>